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8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8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11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14.jpeg" ContentType="image/jpeg"/>
  <Override PartName="/ppt/media/image41.jpeg" ContentType="image/jpe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10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2CAA-AB94-4266-8565-7145D9DF18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E672-5518-463D-9836-B60027D58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FCD3-AFDD-4F70-984A-B9DC4C8972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669B-D1B9-4CB3-8574-0954A7C04D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E802-7500-4070-B76B-F8B205CD29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C3F-B031-4380-8CBC-981A37D6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315-D600-4408-BD40-07582E9C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0C8-C822-4E62-AD5A-1F09B47C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7A7-9031-4C0E-B66D-21A7A40D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47BC-D67E-4431-8378-867FB5BE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87B4-0A61-495F-AC16-9B51252F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1CA1-E604-4090-BB65-64899EF7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5F80-0483-4CCA-BD3C-B72C61F6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3C4E-C5F0-4887-9696-21B6F1BF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CB55-8A21-4937-9CB7-78A95B95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DDAC-9331-469F-BE88-B665103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439-3D00-45E8-8875-A3E5602D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9C84-D759-4E3D-9523-D004BE7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F9BC-8EE8-479B-B893-359623CB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B2C4-79F4-49DA-B282-052B1C38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5E35-6E98-46C3-A728-EA8574AD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A6D9-CADC-4F41-BD85-B6391489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AB8-D5B8-45D6-8EF2-11973AD8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33B-A08A-4EF3-BEED-5D4E841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752-A2DB-4FF2-9E15-03B8C4CD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666-3132-47CC-B01F-D97E56B7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511-FF0D-4855-BC5E-B397F49D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0CF-F64B-481B-94C6-A39BFA7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BBF-ACA0-40AF-A4D1-157E65CA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952A-9B38-4060-B6D1-4BC9E886D7F2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24BE-F35D-4B69-BF90-5F48DB1C69A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E444-2928-47EA-9B59-77D57A70E9D9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D8F2-3D35-4991-B1EF-DD811D32D99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8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1822320" y="603360"/>
            <a:ext cx="5499360" cy="585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Placeholder 4" descr="colonies.gif"/>
          <p:cNvPicPr/>
          <p:nvPr/>
        </p:nvPicPr>
        <p:blipFill>
          <a:blip r:embed="rId3"/>
          <a:stretch/>
        </p:blipFill>
        <p:spPr>
          <a:xfrm>
            <a:off x="1762200" y="1792440"/>
            <a:ext cx="5937120" cy="4389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Remember the other colonizing powers: Spain, Swedes, France, Netherland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5984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owhatan’s Confederacy and the early settlers briefly coexisted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ohn Rolfe, the “Father of Tobacco” had married Pocahonta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irst Anglo- Powhatan War (1614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econd Anglo-Powhatan War (1646) decimates Natives in are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5" descr="250px-Powhatan_john_smith_map.jpg"/>
          <p:cNvPicPr/>
          <p:nvPr/>
        </p:nvPicPr>
        <p:blipFill>
          <a:blip r:embed="rId3"/>
          <a:stretch/>
        </p:blipFill>
        <p:spPr>
          <a:xfrm>
            <a:off x="3733920" y="4267080"/>
            <a:ext cx="19810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olfe’s sweet tobacco was sought as a cash crop by Europe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Content Placeholder 4" descr="tob.jpg"/>
          <p:cNvPicPr/>
          <p:nvPr/>
        </p:nvPicPr>
        <p:blipFill>
          <a:blip r:embed="rId3"/>
          <a:stretch/>
        </p:blipFill>
        <p:spPr>
          <a:xfrm>
            <a:off x="2209680" y="3581280"/>
            <a:ext cx="1828800" cy="23209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5334120" y="1219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rst African Americans arrived in 1619  and quickly became slaves. Barbados slave co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1" descr="slavery2tradeimage.jpg"/>
          <p:cNvPicPr/>
          <p:nvPr/>
        </p:nvPicPr>
        <p:blipFill>
          <a:blip r:embed="rId4"/>
          <a:stretch/>
        </p:blipFill>
        <p:spPr>
          <a:xfrm>
            <a:off x="4572000" y="39625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Virginia House of Burgesses set America on a rule towards self-rul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ames I called it a “seminary of sedition”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Content Placeholder 4" descr="burgesses.jpg"/>
          <p:cNvPicPr/>
          <p:nvPr/>
        </p:nvPicPr>
        <p:blipFill>
          <a:blip r:embed="rId3"/>
          <a:stretch/>
        </p:blipFill>
        <p:spPr>
          <a:xfrm>
            <a:off x="5105520" y="182880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ounded by Lord Baltimore as a safe haven for persecuted Catholic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eudal estates granted by Lord Baltimore to close associat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obacco was cash cr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Content Placeholder 4" descr="LordBaltimore.jpg"/>
          <p:cNvPicPr/>
          <p:nvPr/>
        </p:nvPicPr>
        <p:blipFill>
          <a:blip r:embed="rId3"/>
          <a:srcRect l="-845" t="0" r="-845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uaranteed religious toleration to all Christians but decreed death penalty to those not believe in divinity of Chris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Picture 3" descr="act of t.jpg"/>
          <p:cNvPicPr/>
          <p:nvPr/>
        </p:nvPicPr>
        <p:blipFill>
          <a:blip r:embed="rId3"/>
          <a:stretch/>
        </p:blipFill>
        <p:spPr>
          <a:xfrm>
            <a:off x="2057400" y="3048120"/>
            <a:ext cx="61722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y 1600s Britain was successfully colonizing the West Indi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ugar was main crop grown by African sla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lave Codes established legal status of slaves / master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Content Placeholder 6" descr="SlavePunishment-Front.jpg"/>
          <p:cNvPicPr/>
          <p:nvPr/>
        </p:nvPicPr>
        <p:blipFill>
          <a:blip r:embed="rId3"/>
          <a:stretch/>
        </p:blipFill>
        <p:spPr>
          <a:xfrm>
            <a:off x="5105520" y="1295280"/>
            <a:ext cx="3657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ack in England a brief Civil War had dispatched Charles I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liver Cromwell had ruled for 10 years but the Restoration had returned Charles II to the throne of England. Colonization could begin again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Content Placeholder 4" descr="Oliver_Cromwell2.jpg"/>
          <p:cNvPicPr/>
          <p:nvPr/>
        </p:nvPicPr>
        <p:blipFill>
          <a:blip r:embed="rId3"/>
          <a:stretch/>
        </p:blipFill>
        <p:spPr>
          <a:xfrm>
            <a:off x="5283360" y="1633680"/>
            <a:ext cx="3644640" cy="2862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5638680" y="48006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Oliver Crom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amed for Charles I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ose economic ties to West Indies because of port of Charlest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ice a principle cr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ots of slaves imported / slave cod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Content Placeholder 4" descr="charleston harbor.jpg"/>
          <p:cNvPicPr/>
          <p:nvPr/>
        </p:nvPicPr>
        <p:blipFill>
          <a:blip r:embed="rId3"/>
          <a:stretch/>
        </p:blipFill>
        <p:spPr>
          <a:xfrm>
            <a:off x="5181480" y="1447920"/>
            <a:ext cx="3657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quatters from Virginia began to enter the Carolina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Upset established aristocratic Charleston planter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rth Carolinians” were more independent minded than the planter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Content Placeholder 4" descr="nc.jpg"/>
          <p:cNvPicPr/>
          <p:nvPr/>
        </p:nvPicPr>
        <p:blipFill>
          <a:blip r:embed="rId3"/>
          <a:srcRect l="0" t="-85701" r="0" b="-85701"/>
          <a:stretch/>
        </p:blipFill>
        <p:spPr>
          <a:xfrm>
            <a:off x="4724280" y="320040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lowCountryColonies.gif"/>
          <p:cNvPicPr/>
          <p:nvPr/>
        </p:nvPicPr>
        <p:blipFill>
          <a:blip r:embed="rId4"/>
          <a:stretch/>
        </p:blipFill>
        <p:spPr>
          <a:xfrm>
            <a:off x="5181480" y="1523880"/>
            <a:ext cx="3657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eorgia was intended to be a buffer colony between Spanish Florida , French Louisiana and Indi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btor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med for George I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nded by James Oglethrop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ts of missionaries in Savannah ( John Wesley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3" name="Content Placeholder 4" descr="LordBaltimore.jpg"/>
          <p:cNvPicPr/>
          <p:nvPr/>
        </p:nvPicPr>
        <p:blipFill>
          <a:blip r:embed="rId3"/>
          <a:stretch/>
        </p:blipFill>
        <p:spPr>
          <a:xfrm>
            <a:off x="5581800" y="1371600"/>
            <a:ext cx="3047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ing Henry VIII breaks with Roman Catholic Church and forms Anglican Church. His daughter, Protest Elizabeth, begins England’s Golden Age and a rivalry with Catholic Spa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3" descr="Elizabeth1England[1].JPG"/>
          <p:cNvPicPr/>
          <p:nvPr/>
        </p:nvPicPr>
        <p:blipFill>
          <a:blip r:embed="rId3"/>
          <a:stretch/>
        </p:blipFill>
        <p:spPr>
          <a:xfrm>
            <a:off x="3200400" y="3471840"/>
            <a:ext cx="28195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lavery found in all coloni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ustling seapor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arge plantatio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ecause of travel issues few school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ajor crops were rice / tobacco and indig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ome form of religious toler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Content Placeholder 4" descr="300px-Map_of_territorial_growth_1775.jpg"/>
          <p:cNvPicPr/>
          <p:nvPr/>
        </p:nvPicPr>
        <p:blipFill>
          <a:blip r:embed="rId3"/>
          <a:stretch/>
        </p:blipFill>
        <p:spPr>
          <a:xfrm>
            <a:off x="4878360" y="1828800"/>
            <a:ext cx="42656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AP PARTS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nalyze each of the documents in your Jamestown packet using AP PARTS: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uthor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Who created the source? What is their point of view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lace and Tim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Where and when was the source produced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ior Knowledg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 What do you already know that would further your understanding of this sources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udienc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 For whom was the source created? Does this affect the reliability of the sour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as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 Why was this source produced at the time is was produced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e Main Ide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 What is the source trying to conve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gnificanc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 Why is this source importan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lizabeth sends English seadogs to pirate and plunder Spanish ships. Sir Francis Drake also becomes first English seadog  that would circumnavigate the glob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Content Placeholder 6" descr="sir-francis-drake-6.jpg"/>
          <p:cNvPicPr/>
          <p:nvPr/>
        </p:nvPicPr>
        <p:blipFill>
          <a:blip r:embed="rId3"/>
          <a:srcRect l="0" t="-21828" r="0" b="-21828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4" descr=""/>
          <p:cNvPicPr/>
          <p:nvPr/>
        </p:nvPicPr>
        <p:blipFill>
          <a:blip r:embed="rId2"/>
          <a:stretch/>
        </p:blipFill>
        <p:spPr>
          <a:xfrm>
            <a:off x="450720" y="1760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R HUMPHREY GILBERT FAILS IN  NEWFOUNDLAN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336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R WALTER RALEIGH AND THE LOST COLONY (ROANOK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Content Placeholder 10" descr="humphrey gilbert.gif"/>
          <p:cNvPicPr/>
          <p:nvPr/>
        </p:nvPicPr>
        <p:blipFill>
          <a:blip r:embed="rId3"/>
          <a:srcRect l="-22754" t="0" r="-22754" b="0"/>
          <a:stretch/>
        </p:blipFill>
        <p:spPr>
          <a:xfrm>
            <a:off x="457200" y="2362320"/>
            <a:ext cx="4040280" cy="376380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9" descr="walter raleigh.jpg"/>
          <p:cNvPicPr/>
          <p:nvPr/>
        </p:nvPicPr>
        <p:blipFill>
          <a:blip r:embed="rId4"/>
          <a:srcRect l="-19623" t="0" r="-19623" b="0"/>
          <a:stretch/>
        </p:blipFill>
        <p:spPr>
          <a:xfrm>
            <a:off x="4645080" y="2362320"/>
            <a:ext cx="4041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1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3298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Spanish_Armada...defeat.jpg"/>
          <p:cNvPicPr/>
          <p:nvPr/>
        </p:nvPicPr>
        <p:blipFill>
          <a:blip r:embed="rId3"/>
          <a:stretch/>
        </p:blipFill>
        <p:spPr>
          <a:xfrm>
            <a:off x="168120" y="3048120"/>
            <a:ext cx="8807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3" descr=""/>
          <p:cNvPicPr/>
          <p:nvPr/>
        </p:nvPicPr>
        <p:blipFill>
          <a:blip r:embed="rId2"/>
          <a:stretch/>
        </p:blipFill>
        <p:spPr>
          <a:xfrm>
            <a:off x="378000" y="-6480"/>
            <a:ext cx="8235720" cy="2067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3520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000" algn="ctr"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Popular strong monar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27000" algn="ctr"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Golden Age of Literatur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27000" algn="ctr"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Sense of Nationalis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27000" algn="ctr"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Religious 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27000" algn="ctr"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“</a:t>
            </a: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Mistress of the seas”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270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6" descr="Parliament2.jpg"/>
          <p:cNvPicPr/>
          <p:nvPr/>
        </p:nvPicPr>
        <p:blipFill>
          <a:blip r:embed="rId3"/>
          <a:stretch/>
        </p:blipFill>
        <p:spPr>
          <a:xfrm>
            <a:off x="1371600" y="4267080"/>
            <a:ext cx="2857680" cy="232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shakespeare.jpg"/>
          <p:cNvPicPr/>
          <p:nvPr/>
        </p:nvPicPr>
        <p:blipFill>
          <a:blip r:embed="rId4"/>
          <a:stretch/>
        </p:blipFill>
        <p:spPr>
          <a:xfrm>
            <a:off x="4952880" y="2209680"/>
            <a:ext cx="3810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ushrooming populat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closure mov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employ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mogeni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oint Stock Compan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the 1600s the joint stock company was perfected, forerunner to modern capital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2"/>
          <a:stretch/>
        </p:blipFill>
        <p:spPr>
          <a:xfrm>
            <a:off x="1670040" y="530280"/>
            <a:ext cx="6261120" cy="1000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06 Virginia Company received a charter from King James I to settle in New World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earching for gold but cash crop turned out to be tobacc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Picture 2" descr="h:\My Pictures\tob.jpg"/>
          <p:cNvPicPr/>
          <p:nvPr/>
        </p:nvPicPr>
        <p:blipFill>
          <a:blip r:embed="rId3"/>
          <a:srcRect l="-17954" t="0" r="-17954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ly settlers worked littl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tarving time”- disease, malnutrition, starvatio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aptain John Smith saved colony by his “no work, no food” polic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ocahontas saves John Smith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8" name="Picture 4" descr="j smith.jpg"/>
          <p:cNvPicPr/>
          <p:nvPr/>
        </p:nvPicPr>
        <p:blipFill>
          <a:blip r:embed="rId3"/>
          <a:stretch/>
        </p:blipFill>
        <p:spPr>
          <a:xfrm>
            <a:off x="5334120" y="2590920"/>
            <a:ext cx="2590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22:40:15Z</dcterms:created>
  <dc:creator>brissettematthew</dc:creator>
  <dc:description/>
  <dc:language>en-US</dc:language>
  <cp:lastModifiedBy>emily.johnson</cp:lastModifiedBy>
  <dcterms:modified xsi:type="dcterms:W3CDTF">2012-09-06T13:10:50Z</dcterms:modified>
  <cp:revision>24</cp:revision>
  <dc:subject/>
  <dc:title>The Planting of English America</dc:title>
</cp:coreProperties>
</file>